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A3B7-7B55-487E-BD8B-DA236192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39C-4012-4B7A-9A85-A8BCB923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E77-188F-4448-B6CC-5A3B0BB9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EC0-58A9-45BC-9F7B-EE0E656D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EE0C-B1A7-45B4-B356-DE54FCD5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1C2B-589A-43D8-9131-374A098A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89AD-13AB-4A91-8119-EF1E0833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FCE8-A2F1-4BE3-B246-708A6D86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C824-7B17-4E9A-A31A-8572B349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94A5-7E9C-4C81-8550-AB6F7C15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702C-640B-4138-8A40-A3595954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34B-A556-47DC-A599-56E6F810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3269-FD74-4B48-A782-BD748A75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E0D0-4FA5-4A10-9587-F063A853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CFCC-CE47-43FE-A973-09FC36E0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36E0-717E-4812-9C51-45AADC69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1B84-D67C-45D3-924F-152EDE86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F30-4C71-4663-B37B-44CCE7A1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36E-471B-4718-8570-252D9022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059-BF09-468B-9E71-A352E7BB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CAF-BFE9-496C-82FC-5D787176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A5D-3911-46DC-9D95-BC5E6D6C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6F88-207D-48CE-A71D-8BC2E84B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14A-6216-4778-B7AA-574C2441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BB4D-E3D1-43E4-8950-EFEC35F08F6A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3021-E614-4564-9343-58892613C41E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eaeaea"/>
                </a:solidFill>
                <a:latin typeface="Times New Roman"/>
              </a:rPr>
              <a:t>РЕЦЕНЗИРАЊЕ ПРОЈЕКАТА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Доц. др Снежана Радованови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</a:rPr>
              <a:t>Доц. др Драган Васиљевић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108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учна заснованост пројект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00000" y="1916280"/>
            <a:ext cx="771048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и постоји примењивост предложених резултата истраж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и постоји интердисциплинарност и свеобухватност предложеног проје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чему се огледа научни допринос предложеног истраж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и пројекат може допринети проширивању досадашњих сазнања, као 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дентификацији приоритетних подручја за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арајућу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вен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чна компетентност главног и осталих истраживача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42560" y="1773000"/>
            <a:ext cx="75675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адашње руковођење или учествовање у домаћим и међународним пројекти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чно-научна компетентност истраживача за извођење планираних истраж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кације објављене у домаћим и међународним часопис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кације објављене у области предложеног истраж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ираност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раживача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јек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вршавања у земљи и иностранств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ће и међународне награде за научни и стручни доприно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зводљивост истраживањ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 ли се предложено истраживање у потпуности обавити с наведеном опрем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и постоји употреба савремених техника и технологије током истраж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и су предложени просторни капацитети одговарају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и ли међусекторска сарадња у коришћењу технолошких и просторних капац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нансијска средства неопходна за извођење истраж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АЛА НА ПАЖЊИ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eaeaea"/>
                </a:solidFill>
                <a:latin typeface="Times New Roman"/>
              </a:rPr>
              <a:t>Рецензиј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ија пројекта обавља се из неколико корака, на посебном обрасц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аки податак из прој</a:t>
            </a:r>
            <a:r>
              <a:rPr b="0" lang="sr-Latn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а се оцењује бројчаном оценом и описним коментар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но образложенње треба да прати бројчану оцен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aeaea"/>
                </a:solidFill>
                <a:latin typeface="Times New Roman"/>
              </a:rPr>
              <a:t>Рецензен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енти су дужни да обаве рецензију у складу са стручним и научним норма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ију прој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а врше најчешће два стручна рецензен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 се деси да постоје велика одступања и разлике у рецензијама, може се захтевати супер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ија</a:t>
            </a:r>
            <a:r>
              <a:rPr b="0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а подразумева укључивање још једног експерта из области истраживања пројек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images (21)"/>
          <p:cNvPicPr/>
          <p:nvPr/>
        </p:nvPicPr>
        <p:blipFill>
          <a:blip r:embed="rId1"/>
          <a:stretch/>
        </p:blipFill>
        <p:spPr>
          <a:xfrm>
            <a:off x="8028000" y="404640"/>
            <a:ext cx="7714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ишљење рецензената може бити следеће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јекат прихватити за финансир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јекат вратити аутору на дораду, није потребна нова реценз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јекат вратити аутору на дораду, потребна нова реценз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прихватити пројекат за финансирањ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aeaea"/>
                </a:solidFill>
                <a:latin typeface="Times New Roman"/>
              </a:rPr>
              <a:t>Прихватање пројект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 је пројекат прихваћен, рецензенти дају предлог о начину финансирања пројекта (у потпуности, делимично финансирање..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ачну одлуку о прихватању пројекта и начину финансирања доноси посебна радна група након детаљне анализе приложених рецензиј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нзенти се морају водити одређеним смерницама и критеријумима при рецензији пројек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Критеријуми за оцењивање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на заснованост пројект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чна компетентност главног и осталих истраживач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дљивост истражива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 истраживања за развој кадр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в је потенцијал за публиковање резултата пројекта у међународним часописи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аучна заснованост пројекта 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4256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и су хипотезе и циљеви истраживања јасно изложени и образлож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и се заснивају на релевантним научним открићи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 ли су предложене методе јасно изложене, представљају ли савремени приступ истраживањима у складу с постојећим светским методама истраживања у предложеном подручју, а у складу с постојећим могућност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0:57:46Z</dcterms:created>
  <dc:creator>soclek</dc:creator>
  <dc:description/>
  <dc:language>en-US</dc:language>
  <cp:lastModifiedBy>soclek</cp:lastModifiedBy>
  <dcterms:modified xsi:type="dcterms:W3CDTF">2020-04-02T11:55:42Z</dcterms:modified>
  <cp:revision>23</cp:revision>
  <dc:subject/>
  <dc:title>VEŠTINE KOMUNIKACIJE</dc:title>
</cp:coreProperties>
</file>